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10280" cy="460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fi-F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82AD1A-4657-424F-9BFE-5A1D14793DB2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343AD3-8CC3-4113-9D50-C8981D368852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318D66-09CA-44C3-81BF-C321C4D7865C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AC53B9-CE75-452D-A8AD-4517AEB76364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76ED50-0F0B-47EA-AFCD-4B1D823AA719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5F3CC9-7760-4859-B107-339DF7AD8994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F13B2D5-BFA7-4205-A4C8-CE4F3923F7B5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43395D-F609-4CDE-BE51-E581AE5C6BCD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777658-3E70-4F7F-964C-111D32A23E72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DDB1DB-50AA-42D3-800E-5068809D1066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461948-965C-4BB8-ADE8-C1FABBC8FF50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F6EC54-C340-47BF-A604-6025162A0D49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7EDDBA-F856-4A86-8052-1C9597348DFD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E759B0-A9C9-4809-A32B-8293F103C389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9F8119-2AF2-4151-A960-BF0A5328A214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0FE776-49CD-4675-B323-E30FE8BB2E05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C959BB-71F3-412E-B292-C6AFFE52E196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3B3EDB-57D4-4E8A-8515-ACDB474366BE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7775AD-10FC-4352-8C6E-DD1DD02D81FF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C563B2-3CFF-45EE-8A0C-357252CB18CD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029C52-607B-4008-B060-E35282C81603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444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070D2E-8831-4349-9110-CECAE591AF61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5720" y="4859280"/>
            <a:ext cx="52102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8312-D64E-413B-ADCA-04DBFDDB3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F208-59FA-4862-88E0-F58040337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D2C4-076E-4CF9-AF37-BD69AEA8F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0645-CD56-4A33-8E45-0C0134774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B29EF-725F-4428-8513-D8E978DA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4C1CC-BFDA-40E6-AE41-1CCBFA6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B7B9F-BCFA-47B9-A88C-C35096E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59F4F-6F9D-48B9-B2CE-7B8EB6B3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E9F78-96E8-49CA-B3A1-6CF21660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65666-B494-47E7-B7E8-58276BA5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20094-2157-4D2A-B34D-4304DE1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3700-B9D9-4D94-AA79-89B5964C8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1FB6-CEA3-446A-8383-95CBB25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2BEDC-516B-4922-B7C2-950BDB4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AE8EE-6917-4E58-B83D-F8AF1B67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5C140-5EB7-4E3F-A07D-B4E23F3D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E194-64BA-4F67-87B0-A3EDF8C7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BA99-2983-41D4-81F1-CBAFADCC2A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3C91-C76A-4A8B-BBF0-54315994BD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6230-AA37-43E8-AC9A-89C89C699E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70D-5D98-4C2C-A272-A28537A053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944D-7139-402F-B095-CF99C1F985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B017-C723-44A2-A51B-6362AAD5B2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B3A7-B4F7-4E51-8420-1005092E33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4DBE-8007-4793-B0D2-694528B05B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AE49-7253-48F4-9D2A-89CD987ED2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7C33-3336-47D4-AC95-AA68E51B02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05EC-0293-464B-A628-700A3E4D75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13E8-EE42-4B7E-83CF-D492B9CEC3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141E-C94E-4B0C-AFE0-595F14C72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5C0F-23A7-4ECC-87D6-CE783102E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9150-6A2F-44C8-A385-8299578C8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99F9-640E-410A-BA54-14AFA72D1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9426-6CDB-4A3C-8AED-69007AF3D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6B45-2F3B-4706-BBD0-A823EBBA8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979F-CDB8-4101-B531-AFF244FFE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91680" y="6524280"/>
            <a:ext cx="55515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Times New Roman"/>
              </a:rPr>
              <a:t>Olio-ohjelmoinnin perusteet | Kevät 2015 | Jorma Laurikk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3264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79CF-30E7-428B-9C3C-06351E4F4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68360" y="6453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Olio-ohjelmoinnin perusteet | Kevät 2015 | Jorma Laurikk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524280"/>
            <a:ext cx="21337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B537-CADA-4352-BFE4-19C70C939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7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468360" y="6453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63264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0173-C02E-45EF-8DF5-6A6341F76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NetBean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uni-GitLabissa olevan projektipohjan yhdistäminen NetBeans-projektiin on vaikeaa, koska sekä GitLabilla että projektipohjalla on oma juurihakemisto lähdekoodill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tätietovaraston voi kuitenkin kloonata Ant-projekteissa siten, että Gitin työhakemistoksi on mahdollista valita NetBeans-projektin </a:t>
            </a:r>
            <a:r>
              <a:rPr b="0" i="1" lang="fi-FI" sz="2800" spc="-1" strike="noStrike">
                <a:solidFill>
                  <a:srgbClr val="000000"/>
                </a:solidFill>
                <a:latin typeface="Arial Narrow"/>
              </a:rPr>
              <a:t>src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-hakemisto ilman, että kloonauksen yhteydessä luodaan projektipohjan juurihakemisto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loonaus aloitetaan valitsemalla: Team | Git | Clone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Git on asennettava ennen kloonaus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ietovaraston perust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20D-3518-4FB3-978B-24893678F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Kloonaus tehdään samasta osoitteesta kuin komentorivillä. Samoin kirjautumistiedot ovat samat: Tuni-tunnus ja sen salasana. Kohde-hakemistoksi valitaan NetBeans-projektin hakemisto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ietovaraston perust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255-7F02-48DC-B3D0-751F8086D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880920" y="2604960"/>
            <a:ext cx="6593040" cy="35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4227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Kloonauksen toisessa vaiheessa riittää vain siirtyä kolmanteen vaiheeseen, jossa on erittäin tärkeää antaa kloonin nimeksi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rc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 eli hakemisto, joka sisältää NetBeans-projektin lähdekoodin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ietovaraston perust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49B-0139-405D-9DBB-9BDC735DE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881600" y="1957320"/>
            <a:ext cx="3755880" cy="20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2168640" y="4289400"/>
            <a:ext cx="646884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Lopputuloksena projektiin on liitetty projektipohjan tiedostot ja pakkaukset. Huomaa, että etävarastosta ladattiin päivitetty projekti, johon on liitetty ajoluokka ja jonk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README.md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-tiedostoa on muokattu (katso edellisen luennon materiaali)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ietovaraston perust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B108-A437-44E2-8826-C19196997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895320" y="3036960"/>
            <a:ext cx="3382920" cy="289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552920" y="3036960"/>
            <a:ext cx="3382920" cy="33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3760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Kloonauksen jälkeen Git-komennot löytyvät omina valintoinaan joko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Team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-valikosta, kun projekti-ikkunassa on aktiivisen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ource Packages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 tai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rc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 tai hiiren oikealla näppäimellä avautuvasta hyppyvalikosta projekti-ikkunasta, kun siinä on aktivoituna jompikumpi yllä mainittu kohta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Git-komentoja voi kohdistaa myös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ource Packages-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 tai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rc-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kohtien alt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valittuihin yksittäisiin kohteisiin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ietovaraston perust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32B5-52BA-47FE-8ABD-C17B4D947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4514760" y="1400040"/>
            <a:ext cx="417204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408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File | Project Properties tai Properties hiiren oikealla näppäimellä avautuvasta hyppyvalikosta, kun projektipuun juuri on aktiivinen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Sources: muun muassa lähdekoodin merkistön asetu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Formatting: muun muassa tabulaattorin laatu ja koko. Asetuksia on globaaleja ja kielikohtaisia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Build | Run | Main Class: ajoluokan valinta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Build | Run | Arguments: komentoriviparametri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Build | Run | Working directory: ohjelman suoritushakemisto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Aseta </a:t>
            </a:r>
            <a:r>
              <a:rPr b="0" i="1" lang="fi-FI" sz="2600" spc="-1" strike="noStrike">
                <a:solidFill>
                  <a:srgbClr val="000000"/>
                </a:solidFill>
                <a:latin typeface="Arial Narrow"/>
              </a:rPr>
              <a:t>Arguments</a:t>
            </a: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- ja </a:t>
            </a:r>
            <a:r>
              <a:rPr b="0" i="1" lang="fi-FI" sz="2600" spc="-1" strike="noStrike">
                <a:solidFill>
                  <a:srgbClr val="000000"/>
                </a:solidFill>
                <a:latin typeface="Arial Narrow"/>
              </a:rPr>
              <a:t>Working directory</a:t>
            </a: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 -kohdat siten, että ohjelmasi löytää kokoelman ja sulkusanalistan tiedostot, kun se on valmis lukemaan tiedostoja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Projektin asetukse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74F-B701-40D1-B84C-9BEB5F020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Oletetaan, että testitiedostot ovat hakemistoss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C:\Users\csjola\Documents\ oope2_2020\kokoelmat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 ja että tässä vaiheessa halutaan lukea vain tiedostoss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jokes_oldies.txt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 oleva vitsien kokoelma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Projektin asetukse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1BA9-D6C6-4D1F-8CEA-1534576D3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923760" y="2467080"/>
            <a:ext cx="6755040" cy="36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Uusi luokka, rajapinta, lueteltu tyyppi, pakkaus ja niin edelleen luodaan dialogien ohjaamana: File | New 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File...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Ohjelman muokka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06C8-5343-45EF-A13D-4E5F3041E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885960" y="2143080"/>
            <a:ext cx="577836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Lähdekooditiedoston pakkaus valitaan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Package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-listasta. Muista luoda pakkaus ennen tiedosto, jos olet tekemässä uuteen pakkaukseen tulevaa tiedostoa. </a:t>
            </a:r>
            <a:r>
              <a:rPr b="1" lang="fi-FI" sz="2200" spc="-1" strike="noStrike">
                <a:solidFill>
                  <a:srgbClr val="000000"/>
                </a:solidFill>
                <a:latin typeface="Arial Narrow"/>
              </a:rPr>
              <a:t>Package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-lause lisätään tiedostoon automaattisesti. Tiedostoa ei ole pakko liittää mihinkään pakkaukseen. Ajoluokan tulee oll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rc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-hakemistossa pakkausten ulkopuolella eli ei missään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rc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:n alihakemistossa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Ohjelman muokka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013-8523-46A4-A420-F792ADF68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05040" y="3219480"/>
            <a:ext cx="6257880" cy="28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iedosto valitaan muokattavaksi esimerkiksi tupla-klikkauksella projekti-ikkunass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Navigointi-ikkuna näyttää valitun tiedoston rakenteen. Esimerkiksi luokasta listataan attribuutti ja metod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NetBeans analysoi lähdekoodia sen kirjoittamisen aikan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Editori näyttää kielioppivirheet punaisina pallukoina ja varoitukset ja parannusvihjeensä keltaisina pallukoin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Vihjeet voi kääntää pois päältä: File | Project Hint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c00000"/>
                </a:solidFill>
                <a:latin typeface="Arial Narrow"/>
              </a:rPr>
              <a:t>Älä luota liikaa NetBeansiin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 tai vastaavaan työkaluu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ikään työväline ei korvaa omaa osaamist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Vinkit saattavat johtaa harhaan varsinkin, jos niitä ei ymmärr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Ohjelman muokka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6EDE-06E3-4BFF-90EE-3D19F58E6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Johdant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NetBeansin asennu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rojektin luomine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ietovaraston perustamine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rojektin asetukse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Ohjelman muokkaamine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ääntäminen ja ajamine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Debuggau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Sisältö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2EAE-794C-442B-A351-331DCD745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un | Build project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: päättelee mitä kaikkea tulee kääntää ja kääntää projekti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un | Clean and Build Project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: tuhoaa ensin kaiken tavukoodin ja kääntää sitten projekti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Run | Run Project tai iso vihreä kolmio: kääntää ja ajaa projekti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jettaessa editori-ikkunan alle avautuu tulosikkuna, jossa esitetään ohjelman tulosteet ja luetaan syötteet, jos ohjelmalla tekstipohjainen käyttöliittym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Kääntäminen ja aj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FF1-DDFA-4E3D-8F77-590BC6910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Kääntäminen ja ajaminen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8FE-848B-4AF9-9EBE-0F8617BDB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65504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rojektinhallinnan lisäksi NetBeansin arvokkaimpia ominaisuuksia on visuaalinen askeltava bebuggau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nnen debuggausta ohjelman koodiin lisätään yksi tai useampi pysäytyspisteitä (break point) klikkaamalla hiirellä niiden rivien numeroita, joille ohjelman halutaan pysähtyvä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Sitten käynnistetään ohjelma debuggaustilassa: Debug | Debug Project tai ajonapin oikealla puolella oleva nappi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ulostusikkunaan avautuu debuggaukseen liittyviä välilehtiä. </a:t>
            </a:r>
            <a:r>
              <a:rPr b="0" i="1" lang="fi-FI" sz="28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-välilehdellä voi seurata ohjelman olioiden tila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Debuggau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8F3-2ADA-4A67-B3DB-D17056A51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Ohjelma pysähtyy ensimmäiseen pysäytyspisteeseen, josta voidaan jatkaa eri tavoin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tep over: lausekkeessa olevat metodikutsut ohitetaan ja siirrytään seuraavaan lauseesee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tep over expression: ohitetaan tietty lauseen lausek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tep into: seurataan lauseen metodikutsu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tep out: palataan metodista takaisi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Debuggaus keskeytetään valikon isolla punaisella napill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Debuggau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3CF-218F-4F55-8C9F-BF427F40E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NetBeans on graafinen </a:t>
            </a:r>
            <a:r>
              <a:rPr b="0" lang="fi-FI" sz="2800" spc="-1" strike="noStrike">
                <a:solidFill>
                  <a:srgbClr val="c00000"/>
                </a:solidFill>
                <a:latin typeface="Arial Narrow"/>
              </a:rPr>
              <a:t>ohjelmointiympäristö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Editori, kääntäjä, tulkki, debuggeri, versionhallinta ja niin edelleen on yhdistetty (integeroitu) samaan ohjelmaa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499"/>
              </a:spcBef>
              <a:buClr>
                <a:srgbClr val="333399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tegrated Development Environment (IDE)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lun perin Java-ohjelmien kehittämisen. Tukee nykyisin Javan lisäksi muun muassa Python- ja JavaScript-kieli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ehitys alkoi Kaarlen yliopistossa Prahassa 1996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pache Software Foundation</a:t>
            </a: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 -järjestön hallinnoima avoimen lähdekoodin projekti vuodesta 2016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c00000"/>
                </a:solidFill>
                <a:latin typeface="Arial Narrow"/>
              </a:rPr>
              <a:t>Ilmainen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 ohjelmisto, joka on saatavilla Windows-, Mac- ja Linux-ympäristöihi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lmaisuudestaan huolimatta teollisuustason työkalu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Johdanto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238-8509-4583-88B8-4187D767C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c00000"/>
                </a:solidFill>
                <a:latin typeface="Arial Narrow"/>
              </a:rPr>
              <a:t>Raskas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 ohjelmisto, jonka juoheva käyttö vaatii tehokkaan tietokonee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nalysoi lähdekoodia sitä kirjoitettaess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sa hitaudesta johtuu siitä, että NetBeans on toteutettu Javall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arhaimmillaan laajoissa projekteiss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e pienet ohjelmat jollain kevyemmällä työvälineell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Ominaisuuksiltaan vastaavan tyyppisiä ympäristöjä paljo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uun muassa ilmainen Eclipse ja kaupallinen MS Visual Studi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hjelmointiympäristöt muistuttavat toisiaan: Jos NetBeans on tuttu, on siirtymä johonkin toiseen ympäristöön melko vaivatont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Johdanto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8B84-84B4-4CC1-95B7-43D2F9136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Äärimmäisen helppoa Gitin asennukseen verrattun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Saatavilla verkossa Apachen kotisivujen kaut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ttp://netbeans.apache.org/download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Valitse koneesi käyttöjärjestelmälle tehty asennusohjelm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aatavilla Windowsiin myös zip-paketissa, jolloin ohjelmaa ei tarvitse asentaa, vaan se voi suorittaa puretusta paketist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arvitsee Java-ohjelmien kehitykseen Java JDK:n, joka on asennettava erikseen Oraclen sivuil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unnistaa JDK:n automaattisesti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JDK:n asennuksesta on kerrottu lisää täällä: https://coursepages.uta.fi/tiep5-1/syksy-2019/java-jdk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Asennus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DE8-C368-4359-9469-3670E3928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Jokainen ohjelma on NetBeansissa projekti, joka luodaan dialogien ohjaaman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rojekti sisältää muun muassa lähdekoodin, käännetyn lähdekoodin ja automatisoidun käännöksen määrittely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loitetaan valitsemalla File | New Project.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ällä kurssilla riittää mahdollisimman yksinkertainen projekti: “Java with Ant”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nt on vanhahtava työkalu projektien automaattiseen kääntämiseen. Tarjolla on ovat myös uudemmat Gradle ja Maven, joita ei kuitenkaan nyt suositella käännösautomaatioon, koska tässä dokumentissa myöhemmin annettavat Git-ohjeet on sovitettu Ant-projekteill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Projekti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1DDA-CD44-4D0F-BC71-D1990831E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Projekti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DA9C-ADEF-47AA-9358-E018B5971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486080" y="1824120"/>
            <a:ext cx="617220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38960" cy="11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Projektin tiedostot ja hakemistot tallennetaan hakemistoon, jonka nimi johdetaan projektin nimestä (all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ht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). Ajoluokkaa ei luoda, koska se sijoittuu pakkausten ulkopuolelle. Projekti luodaan klikkaamalla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Finish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Projekti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DAA3-05D1-4779-8B9D-44DC713C5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885960" y="2495520"/>
            <a:ext cx="5468760" cy="36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38960" cy="18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NetBeans avaa projektin luomisen jälkeen työnäkymän, joko koostuu editori-ikkunasta ja sen vieressä olevista projekti- ja navigointi-ikkunoista. Projekti-ikkunassa näytetään eri välilehdillä muun muassa projektin rakenne ja sen tiedostot. Lähdekooditiedostot ja pakkaushakemistot ovat </a:t>
            </a:r>
            <a:r>
              <a:rPr b="0" i="1" lang="fi-FI" sz="2200" spc="-1" strike="noStrike">
                <a:solidFill>
                  <a:srgbClr val="000000"/>
                </a:solidFill>
                <a:latin typeface="Arial Narrow"/>
              </a:rPr>
              <a:t>src</a:t>
            </a: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-hakemistossa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Projekti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5105-D18D-4F13-BAA6-C15CAEB39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80920" y="3243240"/>
            <a:ext cx="3772080" cy="2963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853160" y="3243240"/>
            <a:ext cx="3771720" cy="296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4:19:54Z</dcterms:created>
  <dc:creator>Jorma Laurikkala</dc:creator>
  <dc:description/>
  <dc:language>en-US</dc:language>
  <cp:lastModifiedBy>Jorma Laurikkala</cp:lastModifiedBy>
  <cp:lastPrinted>2019-03-12T14:33:24Z</cp:lastPrinted>
  <dcterms:modified xsi:type="dcterms:W3CDTF">2020-03-11T10:03:09Z</dcterms:modified>
  <cp:revision>4807</cp:revision>
  <dc:subject/>
  <dc:title>Olio-ohjelmoinnin perusteet</dc:title>
</cp:coreProperties>
</file>