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6080" y="4859280"/>
            <a:ext cx="5207040" cy="4608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fi-F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A426599-A3E1-4EA1-B9E0-4CFA44EC814E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B04B8F7-2F3C-4900-8CF4-AF0E4FF61E91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46080" y="4859280"/>
            <a:ext cx="520704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51C7F17-C02E-45A6-B720-D2C4BFC55E17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46080" y="4859280"/>
            <a:ext cx="520704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01D3F58-0EF3-4F84-BAD3-8C23A02CA60E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46080" y="4859280"/>
            <a:ext cx="520704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AFE42D9-0E5D-4007-A206-5900B43966E6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46080" y="4859280"/>
            <a:ext cx="520704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19131C2-40D1-435A-9BE9-35E8060528B3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46080" y="4859280"/>
            <a:ext cx="520704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89F0954-CE31-456F-B3A8-1F6CDC31068B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46080" y="4859280"/>
            <a:ext cx="520704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066BC-ACD2-40E8-A2CA-B5EE41D79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39480"/>
            <a:ext cx="822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BACF6-570A-402E-AD28-43BADF19B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39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39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987FA-EACB-47EC-BE9D-B84C0336F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394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394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394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D2752-19E7-412D-BCA9-3B9FA3486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575A9-A8D4-48CD-8F28-4B6E8527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10968-CB0E-4BD2-A475-FAEE307B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9A93B-CCC8-49B9-8F8A-94A80C66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18A93-1B34-4774-AC2F-85EAB764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5CADC-7064-4706-93FC-C7082588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72846-5E4C-480C-B8F0-F3AA0FDE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939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AA650-9738-4539-86FE-2C34F50B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F2BFF-7955-4975-BCA7-584BB4489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939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DEB11-BA03-49E0-A514-B289D48C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939480"/>
            <a:ext cx="822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EEE1E-8FCC-4CB4-897B-3744F6A1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939480"/>
            <a:ext cx="822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3B1F6-EAB7-4978-9B3C-EF4AD437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39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939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5CEB5-7AFC-4815-B70C-8F0DEAB0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9394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9394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939480"/>
            <a:ext cx="264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0A55C-FFB8-4311-B3E1-D2993CB8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B4607-FE8B-4710-8A4D-BC63D96BF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B4F51-ED19-4F93-A2A1-9C40FD5A8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75306-F70D-4D64-B5E3-51A4965B3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4BEF0-ECE1-4FC0-AA1E-0AFBC48AB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39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73860-4631-444F-8705-C22A40C7F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394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D4FE-B2ED-4F0C-96C3-34251022D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39480"/>
            <a:ext cx="82296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12252-D886-419B-956F-2EB5246D3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91680" y="6524280"/>
            <a:ext cx="55515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000000"/>
                </a:solidFill>
                <a:latin typeface="Times New Roman"/>
              </a:rPr>
              <a:t>Olio-ohjelmoinnin perusteet | Kevät 2016 | Jorma Laurikka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632640" y="6524280"/>
            <a:ext cx="21333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80C8-E52F-492F-9758-16364C453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468360" y="645336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Olio-ohjelmoinnin perusteet | Kevät 2016 | Jorma Laurikka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524280"/>
            <a:ext cx="21337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E46B-48A2-47AC-81BA-6145619C2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5760" y="1363320"/>
            <a:ext cx="8582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Kurssiesite</a:t>
            </a:r>
            <a:br>
              <a:rPr sz="4400"/>
            </a:b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TIEA2.1B</a:t>
            </a:r>
            <a:br>
              <a:rPr sz="4400"/>
            </a:b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Olio-ohjelmoinnin perusteet II</a:t>
            </a:r>
            <a:br>
              <a:rPr sz="4400"/>
            </a:b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Kevät 2020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94800" y="3617640"/>
            <a:ext cx="7791480" cy="24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Jorma Laurikkal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Tietojenkäsittelytietee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Informaatioteknologian ja viestinnän tiedekun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Tampereen yliopist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CB3C-E5E1-4D8E-B091-B03A34252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Vastuuopettaja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48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Jorma Laurikkala, yliopistonlehtori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Luennot ja ohjatut mikroharjoitukset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Sähköposti: jorma.laurikkala@tuni.fi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75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Kurssia koskevien sähköpostien otsikon olisi hyvä alkaa merkkijonolla "Oope 2:"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75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Esimerkkiotsikko: "Oope 2: kysymys luennoista"</a:t>
            </a:r>
            <a:r>
              <a:rPr b="0" i="1" lang="fi-FI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Puhelin: 050 318 5873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Sovi tapaamiset sähköpostill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430D-2AAB-4C5B-9A37-0CFE75CA4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009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Olio-ohjelmoinnin perusteet II </a:t>
            </a:r>
            <a:r>
              <a:rPr b="1" lang="fi-FI" sz="3600" spc="-1" strike="noStrike">
                <a:solidFill>
                  <a:srgbClr val="333399"/>
                </a:solidFill>
                <a:latin typeface="Arial Narrow"/>
              </a:rPr>
              <a:t>(Oope 2)</a:t>
            </a:r>
            <a:endParaRPr b="1" lang="en-US" sz="36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199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Jatketaan ohjelmoinnin opiskelua olionäkökulmasta ja pyritään vetämään yhteen Olio-ohjelmoinnin perusteet I –kurssin asioita harjoitustyön kautt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Lähtötiedoiksi oletetaan Lausekielinen ohjelmointi I ja II -kurssit sekä Olio-ohjelmoinnin perusteet I tai vastaavat tiedot Java-ohjelmoinnista. Puuttuvat tiedot on hankittava omatoimisesti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Kurssisivut (https://coursepages.uta.fi/tiea2-1b/) ovat tärkein tiedotuskanava – </a:t>
            </a:r>
            <a:r>
              <a:rPr b="0" lang="fi-FI" sz="2800" spc="-1" strike="noStrike">
                <a:solidFill>
                  <a:srgbClr val="c00000"/>
                </a:solidFill>
                <a:latin typeface="Arial Narrow"/>
              </a:rPr>
              <a:t>seuraa kurssisivuja</a:t>
            </a: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 säännöllisesti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Jokaisen kurssilaisten tulee ilmoittautua sähköisesti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Ota yhteyttä vastuuopettajaan, jos et ole ilmoittautunut NettiOpsussa tai avoimen yliopiston järjestelmän kautta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Käy kirjautumassa kurssin sivuille WETO-järjestelmässä (wetodev.sis.uta.fi) to 5.3. klo 12.00 (keskipäivä) mennessä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F6D8-1F9B-47FE-9AEA-90B662A98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53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Olio-ohjelmoinnin perusteet II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201680"/>
            <a:ext cx="8437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Sisältää vanhan TIEA2.1 Olio-ohjelmoinnin perusteet 5–10 op kurssin harjoitustyö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Kurssille sisällytetään uutta ainesta ohjelmointivälineiden esittelyn muodossa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Hervannan kampuksen GitLabia on pakko käyttää harjoitustyössä. Kirjaudu WETOssa kurssisivuille ajoissa, jotta saat haltuun projektipohjan ja vastuuopettajan julkaisemat rajapinnat viipymättä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550"/>
              </a:spcBef>
              <a:buClr>
                <a:srgbClr val="333399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 Narrow"/>
              </a:rPr>
              <a:t>Kurssisivuilla ei ole vielä sisältöä, mutta kirjautuminen tarvitaan, jotta vastuuopettaja näkee opiskelijan Tuni-tunnuksen, joka puolestaan tarvitaan GitLabin avaamiseen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9392-2938-4002-B714-512D42E7B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53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Olio-ohjelmoinnin perusteet II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324080"/>
            <a:ext cx="820908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 Narrow"/>
              </a:rPr>
              <a:t>Vanhanmuotoisen kurssin (TIEA2.1, TIEA2 tai TKOPA14) suorittaneet eivät voi saada kurssilta opintopisteitä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IEA2.1-kurssilta viiden opintopisteen laajuisen suppean suorituksen (kurssikoodi joko TIEA2.1 tai TIEA2.1A) saaneen tietojenkäsittelytieteiden tutkinto-ohjelman opiskelijan tulee suorittaa myös TIEA2.1B 5 op, jotta tutkinto-ohjelmasta voi valmistua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c00000"/>
                </a:solidFill>
                <a:latin typeface="Arial Narrow"/>
              </a:rPr>
              <a:t>Järjestetään viimeisen kerran</a:t>
            </a:r>
            <a:r>
              <a:rPr b="0" lang="fi-FI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Kannattaa suorittaa nyt, koska korvaava kurssi järjestetään vasta lukuvuonna 2021–2020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C455-9B85-43C8-A4F9-7CBE5A267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Tavoitteena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Syventää olio-ohjelmoinnin osaamist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ehdään laajempi olio-ohjelma, jossa käytetään linkitettyä listaa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Harjoitustyön rakenne kuvataan ohjelmistojen analyysii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fied Modeling Language</a:t>
            </a: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 (UML) -menetelmällä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Oppia uutt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Git, GitLab, NetBeans, Javadoc ja UML-kaavioiden piirto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E8B9-0281-454D-B4EB-3C2A07881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Työmuodot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Luentoja 5 x 2 tunti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Eivät pakollisia, mutta suositellaan edelleen lämpimästi, koska aivan kaikki asia ei ole luentorungossa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Kysymyksiä saa kysyä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Akateeminen vartti, molemmat tunnit peräkkäin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Harjoitustyö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Pääosin omaa työtä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ehdään pääosin yksin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ukena ohjausryhmät ja Luupin koodauspaja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Kurssilla ei ole harjoituksia tai tenttiä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7195-4A14-46F8-A3C8-19FC07402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Suoritus ja arvostelu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2520" y="1258920"/>
            <a:ext cx="82058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Kurssin suorittamiseksi täytyy tehdä hyväksytysti harjoitustyö joko suppeassa tai laajassa muodoss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Kurssi arvostellaan numerolla 1−5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Arvostelussa huomioidaan aikataulussa pysyminen ja työn laajuu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Suppealla työllä voit saada korkeintaan arvosanan 4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Selkeä myöhästyminen laskee arvosanaa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Arvosana on 5, jos välipalautuksen WETO-testaus ja lopullisen palautuksen julkinen ja salainen WETO-testaus on onnistunut, molemmat palautukset ovat olleet ajoissa ja työ on laaj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333399"/>
                </a:solidFill>
                <a:latin typeface="Arial Narrow"/>
              </a:rPr>
              <a:t>Suoritus ja arvostelu</a:t>
            </a:r>
            <a:endParaRPr b="1" lang="en-US" sz="4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Tarkempi arvosana-asteikko julkaistaan harjoitustyön tarkassa tehtävänannoss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632640" y="6524640"/>
            <a:ext cx="2133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C847-CEBD-4E53-A709-AE31C9DF1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4:19:54Z</dcterms:created>
  <dc:creator>Jorma Laurikkala</dc:creator>
  <dc:description/>
  <dc:language>en-US</dc:language>
  <cp:lastModifiedBy>Jorma Laurikkala</cp:lastModifiedBy>
  <cp:lastPrinted>2019-03-05T15:24:55Z</cp:lastPrinted>
  <dcterms:modified xsi:type="dcterms:W3CDTF">2020-03-03T14:51:18Z</dcterms:modified>
  <cp:revision>3091</cp:revision>
  <dc:subject/>
  <dc:title>Olio-ohjelmoinnin perusteet</dc:title>
</cp:coreProperties>
</file>